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AD8-EC14-4845-8645-E28E8388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6E4-E133-4284-86D0-A24C29F9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8FA-C3EB-4DF2-8D7B-702E427E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9C9-74D0-43C2-93BC-B2F982C8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248D-A3E0-4A27-921E-BFAAC96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8F3-BDD2-40CF-8F97-EF511A2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253-9D6B-4961-92EC-93D83F3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057-41B7-4155-8BE8-F6AD78D9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EC3-E1DD-4D83-A922-C5ABC945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AF1-953D-4D5A-AB9E-C3A1DA03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39B-3F53-4504-B428-45A35A88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46F-942B-44CC-931E-95E3F575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51CF-9D0A-4C57-949A-99CEE98A3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ogan Hend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http://t0.gstatic.com/images?q=tbn:ANd9GcSXnMSiIJrY1qpmK-S7Kb3150nysYuRruR9BaVheU062Oc5uQzO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islpt103\Local Settings\Temporary Internet Files\Content.IE5\DXE561CM\MP900403810[1]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2.gstatic.com/images?q=tbn:ANd9GcSz36x6lrYRdEuCYWZZAnOCKFNN5nOWSGunrgg8QtJ_ptxGFV3M"/>
          <p:cNvPicPr/>
          <p:nvPr/>
        </p:nvPicPr>
        <p:blipFill>
          <a:blip r:embed="rId1"/>
          <a:stretch/>
        </p:blipFill>
        <p:spPr>
          <a:xfrm>
            <a:off x="0" y="160164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ttp://t0.gstatic.com/images?q=tbn:ANd9GcSsBD8H58kGtZHdpseYX_aJddydPE3Rc7keBsuecGBgq85xyWiu5_S1FDEaRQ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ttp://t1.gstatic.com/images?q=tbn:ANd9GcSag13HPEsm7ZGXSzW4nTqOlp29TVpd19sT9B0xh-ZECORF7IoL7w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 apart from Greece but kept economic 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t0.gstatic.com/images?q=tbn:ANd9GcR3FitLvNd9dTRpelJlXbifQwxm5Io8uY80B5BHEsnUjbnUbcexRw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 evidence 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t3.gstatic.com/images?q=tbn:ANd9GcQw3cTmq9V5MaZmD7vm_83NKb3McAItCvj4s5e068NkvfJ4g44X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9T17:07:41Z</dcterms:modified>
  <cp:revision>94</cp:revision>
  <dc:subject/>
  <dc:title>Ancient Greece</dc:title>
</cp:coreProperties>
</file>